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hiphorn.wav" ContentType="audio/x-wav"/>
  <Override PartName="/ppt/media/zapbig0g.wav" ContentType="audio/x-wav"/>
  <Override PartName="/ppt/media/zipdn102.wav" ContentType="audio/x-wav"/>
  <Override PartName="/ppt/media/oldcarhorn.wav" ContentType="audio/x-wav"/>
  <Override PartName="/ppt/media/lzipup01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meepmee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CB1-AB7C-4548-B581-4DA439D9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1A2-A1AF-4114-8F53-E37EA28B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EA3-C19B-49E6-8830-15B04B8B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CF5-FDFB-4F7F-A40C-AE4B8B89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871-A579-4B96-AF00-F0D336F4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F29-8DE0-47E3-9DCB-C8567667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5E3-1B08-4E22-88F7-E2534E4C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C12-8D03-4333-93AD-B657F148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A43-7653-4A21-96C2-5E6E2B01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0DC-00FB-4F47-951D-B682A313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658-20A3-4477-8895-3A4C83D4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8F8-EC9A-496A-A1BE-B1FB450F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BEC3-203C-46CF-9C61-0D3E38816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hiphorn.wav"/><Relationship Id="rId2" Type="http://schemas.openxmlformats.org/officeDocument/2006/relationships/audio" Target="../media/oldcarhorn.wav"/><Relationship Id="rId3" Type="http://schemas.openxmlformats.org/officeDocument/2006/relationships/audio" Target="../media/bserie06.wav"/><Relationship Id="rId4" Type="http://schemas.openxmlformats.org/officeDocument/2006/relationships/audio" Target="../media/oldcarhorn.wav"/><Relationship Id="rId5" Type="http://schemas.openxmlformats.org/officeDocument/2006/relationships/audio" Target="../media/bserie06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jetflyby2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meepmeep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meepmeep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hzipup01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jetflyby2.wav"/><Relationship Id="rId6" Type="http://schemas.openxmlformats.org/officeDocument/2006/relationships/audio" Target="../media/meepmeep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meepmeep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hiphorn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meepmeep.wav"/><Relationship Id="rId4" Type="http://schemas.openxmlformats.org/officeDocument/2006/relationships/audio" Target="../media/bserie06.wav"/><Relationship Id="rId5" Type="http://schemas.openxmlformats.org/officeDocument/2006/relationships/audio" Target="../media/meepmeep.wav"/><Relationship Id="rId6" Type="http://schemas.openxmlformats.org/officeDocument/2006/relationships/audio" Target="../media/bserie06.wav"/><Relationship Id="rId7" Type="http://schemas.openxmlformats.org/officeDocument/2006/relationships/audio" Target="../media/meepmeep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06560" y="2143080"/>
                <a:ext cx="68436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949320" y="741240"/>
            <a:ext cx="728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30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Sub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106640" y="4138560"/>
                <a:ext cx="68436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Use the distributive property to comp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19120" y="1846440"/>
                <a:ext cx="33368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477800" y="2833560"/>
                <a:ext cx="825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81240" y="3622680"/>
                <a:ext cx="565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363760" y="2841480"/>
                <a:ext cx="10429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3" name=""/>
          <p:cNvCxnSpPr/>
          <p:nvPr/>
        </p:nvCxnSpPr>
        <p:spPr>
          <a:xfrm flipH="1" flipV="1" rot="5400000">
            <a:off x="1904760" y="1593000"/>
            <a:ext cx="27720" cy="694440"/>
          </a:xfrm>
          <a:prstGeom prst="curvedConnector5">
            <a:avLst>
              <a:gd name="adj1" fmla="val 1322368"/>
              <a:gd name="adj2" fmla="val 50000"/>
              <a:gd name="adj3" fmla="val 132236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 flipH="1" flipV="1" rot="5400000">
            <a:off x="2368440" y="1182240"/>
            <a:ext cx="27720" cy="1542240"/>
          </a:xfrm>
          <a:prstGeom prst="curvedConnector5">
            <a:avLst>
              <a:gd name="adj1" fmla="val 1822368"/>
              <a:gd name="adj2" fmla="val 49988"/>
              <a:gd name="adj3" fmla="val 1822368"/>
            </a:avLst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05400" y="1865160"/>
                <a:ext cx="46386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68880" y="2836800"/>
                <a:ext cx="567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796080" y="4675320"/>
                <a:ext cx="1017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595920" y="2801880"/>
                <a:ext cx="18860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202520" y="3762360"/>
                <a:ext cx="7444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507000" y="3716280"/>
                <a:ext cx="1687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Use the distributive property to comp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04640" y="1846440"/>
                <a:ext cx="3449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77800" y="2859120"/>
                <a:ext cx="825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55880" y="3622680"/>
                <a:ext cx="1017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363760" y="2841480"/>
                <a:ext cx="112860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7" name=""/>
          <p:cNvCxnSpPr/>
          <p:nvPr/>
        </p:nvCxnSpPr>
        <p:spPr>
          <a:xfrm flipH="1" flipV="1" rot="5400000">
            <a:off x="1904760" y="1593000"/>
            <a:ext cx="27720" cy="694440"/>
          </a:xfrm>
          <a:prstGeom prst="curvedConnector5">
            <a:avLst>
              <a:gd name="adj1" fmla="val 1322368"/>
              <a:gd name="adj2" fmla="val 50000"/>
              <a:gd name="adj3" fmla="val 132236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 flipH="1" flipV="1" rot="5400000">
            <a:off x="2368440" y="1182240"/>
            <a:ext cx="27720" cy="1542240"/>
          </a:xfrm>
          <a:prstGeom prst="curvedConnector5">
            <a:avLst>
              <a:gd name="adj1" fmla="val 1822368"/>
              <a:gd name="adj2" fmla="val 49988"/>
              <a:gd name="adj3" fmla="val 1822368"/>
            </a:avLst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60840" y="1836720"/>
                <a:ext cx="4583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094440" y="2827440"/>
                <a:ext cx="5158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021440" y="4646520"/>
                <a:ext cx="565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595920" y="2801880"/>
                <a:ext cx="18860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375680" y="3762360"/>
                <a:ext cx="396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494400" y="3701880"/>
                <a:ext cx="1687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457360" y="1471680"/>
                <a:ext cx="2319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949320" y="741240"/>
            <a:ext cx="728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Division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052800" y="2451240"/>
                <a:ext cx="15271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÷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6080" y="1449360"/>
                <a:ext cx="107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64080" y="2444760"/>
                <a:ext cx="11318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32200" y="3444840"/>
                <a:ext cx="16398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÷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41760" y="3438360"/>
                <a:ext cx="118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Use division properties to comp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055520" y="2724120"/>
                <a:ext cx="2206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5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629080" y="2112840"/>
                <a:ext cx="452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21480" y="2612880"/>
                <a:ext cx="21492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7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124760" y="2004840"/>
                <a:ext cx="6220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57680" y="4243320"/>
                <a:ext cx="2489040" cy="21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633920" y="5219640"/>
                <a:ext cx="566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49, 2 – 8 #1-9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8-23T00:08:28Z</dcterms:modified>
  <cp:revision>66</cp:revision>
  <dc:subject/>
  <dc:title>Slide 1</dc:title>
</cp:coreProperties>
</file>